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90288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FB9-D215-4D90-A405-593ECA23E7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" Target="../slides/slide15.xml"/><Relationship Id="rId4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F8C-23D1-4598-97AA-5D51B98E3BB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47CD-AC36-47C0-9A64-2F852BE484D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E4AD-7674-4747-922B-940D3DFFC90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D8D-B7E3-4F90-BD35-CA928E861DB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Learning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s list is not compreh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s is the aspiration! – actually is happening in classrooms though- and the re is a spill-over into othe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122480" y="5837400"/>
          <a:ext cx="4491000" cy="361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837400"/>
                    <a:ext cx="449100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38A-E550-4C5F-B030-6504C45B0FA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B2B3-E689-4864-9DAC-17EFDF75786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965F-1BBD-4B17-8F28-E001E773C18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8B7-A000-4232-85BE-B21B2BE55A9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138F-E37C-4BB9-88C9-2439B7E1D7F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CAF5-735D-4D57-9B9E-44A0130214E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9F44-455A-45F5-9AA2-252E9B8037E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5335-D13C-4F40-AB76-F35B5E5B6E1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28E-7F5D-4156-8F48-89B840E7D4F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24DA-B9D7-47F2-9106-1466A74C9CD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DBF-9456-4AC2-9395-4E087B27127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C65-54A5-4BB3-B35A-BAB79DB8F65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F3D-2035-4FDD-8588-A41D87AFC3B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FC8-F9A4-4E87-A204-EC2AC7FA5FF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723-FDC3-4D56-9F7A-31E27AAB3AD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1B30-DD3E-420C-96FF-2BAE112481F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48C-B675-4637-AB77-BF50D83B861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3A5-E974-4012-B6AD-83F7D5D12F9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ttitudes/ skills/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rocess nt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3 Ts – thinking/ teamwork/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45FE-E715-48DA-92E0-0A04D311610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FDB-CAE6-4D7C-BF54-38DD696D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F38-D131-469D-B174-701C1B3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87F-7B6F-45B5-8260-35ADF57A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E8A-0396-406F-9E01-F5A7302E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7E69-A4EE-44BF-A1A5-83C15C60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8BEB-5A45-46C0-ACF6-432FD42A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0DE3-F891-4A13-9699-C14D5D39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10CE-A2AA-4EB3-BEA2-F68E851F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D4AE-D9B0-4940-A867-CC26F7A8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C60A-5881-4458-9CD5-7DC7ED46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3576-663A-4389-AFF9-182130DC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7A8-04C4-4332-B089-24C45A33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1EDF-1716-4C38-9551-9AB95EA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09EC-A5AF-40BC-A044-4D4A4E6C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3599-2437-4311-9240-DF5151D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59C0-5C2B-45B4-A80F-B322E8D2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414-2909-4CB4-8607-2D11C342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D06-0E17-4B15-9A07-025A6DB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181-2034-4EC2-963F-C3559FA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430-D6E7-4364-B191-60B2BE2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5BA-E54A-4C2D-A431-C8CB651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D7A-F943-4677-9B97-9D83DA3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89C-B1D0-4FB4-9500-46648D0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0AF-E138-4C0C-8CE9-424BCB9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5E6D-9E87-4516-AC68-9A94B4CE9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F6F2-DAC3-4876-A5AC-C65DB8A59E44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T.  ANNE’S 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OMMUNITY COLLEGE 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RANSITION YEAR PROGRAMM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N OVERVIEW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Information Sess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RE SUBJECT LAY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ENGLISH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IRISH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ATH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A FOREIGN LANGUAG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BJECT SAMPLING LAY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AR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COMPUTER STUD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HOME ECONOMICS &amp; INTERNATIONAL CUISI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ATERIALS TECHNOLOG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USI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ETAL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SPEECH AND DRAM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SOLID WORK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WORLD OF SCIENC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RANSITION SPECIFIC LAY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MINI-COMPAN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PUBLIC ACCESS TO LAW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SCHOOL BAN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VARIETY OF SPORTING ACTIVIT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FIRST AI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YOUNG SOCIAL INNOVATO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HEALTH AND SAFE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GREEN SCHOOL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RELIGIOUS EDUCATION AND SOCIAL OUTREACH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ALENDAR LAY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WORK EXPERIENCE PLACEMEN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VISITING SPEAKE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OUTDOOR PURSUI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EXCURSION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ISSIONVALE, SOUTH AFRI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SCHOOL MUSICA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11736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45472"/>
                </a:solidFill>
                <a:latin typeface="Times New Roman"/>
              </a:rPr>
              <a:t>BALANCE IN THE T</a:t>
            </a:r>
            <a:r>
              <a:rPr b="1" lang="en-IE" sz="3600" spc="-1" strike="noStrike">
                <a:solidFill>
                  <a:srgbClr val="545472"/>
                </a:solidFill>
                <a:latin typeface="Times New Roman"/>
              </a:rPr>
              <a:t>.Y. </a:t>
            </a:r>
            <a:r>
              <a:rPr b="1" lang="en-GB" sz="3600" spc="-1" strike="noStrike">
                <a:solidFill>
                  <a:srgbClr val="545472"/>
                </a:solidFill>
                <a:latin typeface="Times New Roman"/>
              </a:rPr>
              <a:t>CURRICULU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TRADITIONAL SUBJECTS.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NEW MODULE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Didactic Teaching Methods.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               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Active Teaching Method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ACADEMIC SKILLS.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   SELF-DIRECTED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LEARNING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Class based learning. 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          Out of school activitie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BASIC STUDY HABITS.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THE CAPACITY TO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            WORK IN GROUP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4114800" y="1628640"/>
            <a:ext cx="12952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4038480" y="234936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352680" y="2997360"/>
            <a:ext cx="20574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3200400" y="4221000"/>
            <a:ext cx="20574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3570120" y="4941720"/>
            <a:ext cx="18288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8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METHODOLOG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Active &amp; Learner-focuse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Teacher as Facilitato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Group-work / Pair-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Role-play /Simulation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Project work /Field-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Out-of-school Activit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Visiting Speake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Practical-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ASSESSMEN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STUDENTS ARE ASSESSED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ON ALL ASPECTS OF THE PROGRAMM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USING A VARIETY OF TECHNIQU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Portfolio Assess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Oral Presenta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ural Assess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Project-Wor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Self-Assess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Written and/or Practical Class Tes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Displays of Wor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RTIFICA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rtificate from St. Anne’s Community Colleg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UDENTS WILL BE ASSESSED 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rticip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thusias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mit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gress Throughout the Yea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the Students Apply Themselves to the Programm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POINTS TO CONSIDER </a:t>
            </a:r>
            <a:br>
              <a:rPr sz="4400"/>
            </a:b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ABOUT  TY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Why do I want to do TY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Don’t Base Your Decision on What Your Friends Want to Do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4</a:t>
            </a:r>
            <a:r>
              <a:rPr b="0" lang="en-IE" sz="2800" spc="-1" strike="noStrike" baseline="30000">
                <a:solidFill>
                  <a:srgbClr val="545472"/>
                </a:solidFill>
                <a:latin typeface="Tahoma"/>
              </a:rPr>
              <a:t>th</a:t>
            </a: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 year Subject Options – Tasters in 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m I Ready For Senior Cycle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m I Excited About the Opportunities TY Presents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TOTAL FEES FOR 2015-2016:   €420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€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180 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May 29</a:t>
            </a:r>
            <a:r>
              <a:rPr b="0" lang="en-IE" sz="3200" spc="-1" strike="noStrike" baseline="30000">
                <a:solidFill>
                  <a:srgbClr val="545472"/>
                </a:solidFill>
                <a:latin typeface="Tahoma"/>
              </a:rPr>
              <a:t>th.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€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180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September 30</a:t>
            </a:r>
            <a:r>
              <a:rPr b="0" lang="en-IE" sz="3200" spc="-1" strike="noStrike" baseline="30000">
                <a:solidFill>
                  <a:srgbClr val="545472"/>
                </a:solidFill>
                <a:latin typeface="Tahoma"/>
              </a:rPr>
              <a:t>th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 u="sng" baseline="30000">
                <a:solidFill>
                  <a:srgbClr val="545472"/>
                </a:solidFill>
                <a:uFillTx/>
                <a:latin typeface="Tahoma"/>
              </a:rPr>
              <a:t>DEPOSIT OF €60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 u="sng" baseline="30000">
                <a:solidFill>
                  <a:srgbClr val="545472"/>
                </a:solidFill>
                <a:uFillTx/>
                <a:latin typeface="Tahoma"/>
              </a:rPr>
              <a:t>Return Deposit with Application Form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HISTORY OF TRANSITION YEA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roduced in 1973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instreamed in 1994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ationally two thirds of Post-Primary schools have TY Programm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0,000+ students participate in the TY Programme annuall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ighly regarded internationall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60066"/>
                </a:solidFill>
                <a:latin typeface="Tahoma"/>
              </a:rPr>
              <a:t>EXPECTATIONS OF STUDENTS DURING TY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ctively participate in all the opportunities offere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Develop work and study habits appropriate to senior cycl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Establish positive and respectful relationships with fellow students and teache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Participate in class work and complete homework and other assignments on time and to the required standar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EY TO SUCCES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PARTICIPATION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GOOD ATTENDANCE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POSITIVE RELATIONSHIPS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FLEXIBILITY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OPENNESS TO LEARNING NEW THINGS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GIVE IT A GO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Y IS AN OPPORTUNITY TO DEVELO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R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ading, Writing, Arithmeti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T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nking, Teamwork,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chnolog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L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fe skills, Learning, Leisu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RESEARCH FINDINGS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NSITION YEA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EARCH FINDING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ESRI Study “The Transition Year Programme-An Assessment” has established that students who had taken the TY programme had a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Higher Grade Poin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verag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n the Leaving Certificate as well 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creased Entry Level to Higher Educ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  Students were also found to take a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Broader Range of Cours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t third level than non TY students (ESRI 2004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EARCH FINDING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CCA STUDY 1999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nd that Leaving Cert students who had taken TY Programme were more likely to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e educationally adventurou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Retain subjects at higher leve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ake up subjects they had not taken befo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PECTORATE  EVAL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consensus among Principals, Teachers and Students is that the Transition Year Programme is a very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worthwhile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initiativ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………………It gives the students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time to grow in maturity and to develop self-confidenc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Inspectorate Dept. of Educat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737080" cy="295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3059280" y="746280"/>
            <a:ext cx="2952720" cy="2989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/>
          <a:stretch/>
        </p:blipFill>
        <p:spPr>
          <a:xfrm>
            <a:off x="6227640" y="774720"/>
            <a:ext cx="27003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4"/>
          <a:stretch/>
        </p:blipFill>
        <p:spPr>
          <a:xfrm>
            <a:off x="179280" y="3759120"/>
            <a:ext cx="2880000" cy="2838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3132000" y="3789360"/>
            <a:ext cx="2880000" cy="28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6"/>
          <a:stretch/>
        </p:blipFill>
        <p:spPr>
          <a:xfrm>
            <a:off x="6012000" y="3789360"/>
            <a:ext cx="313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HAT IS TRANSITION YE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One year school based programme between Junior and Senior Cycle 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It provides a bridge to enable students make the transition from Junior to Senior cycle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It offers students a broad variety of learning experiences inside and outside the classroom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An exciting and innovative way of learning for studen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HY WAS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RANSITION YEAR INTRODUCED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ntil recently Irish students left school at a younger age than their European counterpar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need to encourage personal and social developmen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failure rates and high drop-out rates at third leve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give students more educational opportunit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Why Opt for Transition Year?</a:t>
            </a:r>
            <a:br>
              <a:rPr sz="3200"/>
            </a:b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Challenges Facing Young People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332000" y="1197000"/>
            <a:ext cx="6730920" cy="80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545472"/>
                </a:solidFill>
                <a:latin typeface="Times New Roman"/>
              </a:rPr>
              <a:t>The Leaving Certificate &amp;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imes New Roman"/>
              </a:rPr>
              <a:t>Points Rac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s a result of doing the TY Programme the students: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Make  more informed subject choice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Have improved study skill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re more independent learner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Make better CAO choices and meet course requirement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Grow as people and participate more in the school and local communitie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9160" y="691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Why opt for Transition Year?</a:t>
            </a:r>
            <a:br>
              <a:rPr sz="3200"/>
            </a:b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Challenges Facing Young People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27160" y="1523880"/>
            <a:ext cx="7394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Third Level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High drop out rat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Transition Year increases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ge Profile/Maturity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ndependence and Personal Development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 Variety of Skills including Group, Project-work ,Research Skills, Etc.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.C.T. skill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Greater knowledge and Experience of the World of Work and Busines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Social Consciousnes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480" y="691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Why opt for Transition Year?</a:t>
            </a:r>
            <a:br>
              <a:rPr sz="3200"/>
            </a:b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Challenges Facing Young People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6392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Text Box 1028"/>
          <p:cNvSpPr/>
          <p:nvPr/>
        </p:nvSpPr>
        <p:spPr>
          <a:xfrm>
            <a:off x="250920" y="152388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Adult and Working Life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45472"/>
                </a:solidFill>
                <a:latin typeface="Times New Roman"/>
              </a:rPr>
              <a:t>Transition Year helps students to build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Confidence and Assertivenes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Teamwork Skills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Maturity /Critical Judgement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Careers / Work Experience /Community Involvement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nterviews – C.V. , Portfolios, Business Plan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Technical and Practical Skills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.C.T. Skills /Word-Processing/Presentations and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Public-Speaking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15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IM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3124080" y="1447920"/>
            <a:ext cx="243864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1600200" y="3200400"/>
            <a:ext cx="26668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267080" y="3200400"/>
            <a:ext cx="274320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5600" y="1828800"/>
            <a:ext cx="175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ducation for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MATURIT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with emphasis on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social awarenes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&amp; increased social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competenc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905120" y="3657600"/>
            <a:ext cx="218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ducation through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xperience of </a:t>
            </a: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ADULT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&amp; WORKING LIF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as a basis for personal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development &amp; maturit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53000" y="3505320"/>
            <a:ext cx="21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Promotion of general,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technical and academic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SKILLS</a:t>
            </a: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 with a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mphasis on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interdisciplinary and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self-directed learning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HE LAYERS OF </a:t>
            </a: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UR TY PROGRAMME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1. CORE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2.SUBJECT SAMPLING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3. TRANSITION SPECIFIC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4. CALENDAR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2:36:06Z</dcterms:created>
  <dc:creator>Blackrock Education Centre</dc:creator>
  <dc:description/>
  <dc:language>en-US</dc:language>
  <cp:lastModifiedBy>fiona</cp:lastModifiedBy>
  <dcterms:modified xsi:type="dcterms:W3CDTF">2015-03-09T21:22:48Z</dcterms:modified>
  <cp:revision>45</cp:revision>
  <dc:subject/>
  <dc:title>THE TRANSITION YEAR PROGRAMME</dc:title>
</cp:coreProperties>
</file>