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90288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8A44-DEB3-419A-BE22-65E4C9B8F8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" Target="../slides/slide15.xml"/><Relationship Id="rId4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4CE2-21F4-4D58-9130-962D3920C0D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08BD-2E2E-4E79-A807-AFD60488708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FC16-C90D-43F5-B834-5150709160C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3DE9-28CF-415A-B6D1-E1A89BDAADF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Learning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list is not comprehen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his is the aspiration! – actually is happening in classrooms though- and the re is a spill-over into othe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122480" y="5837400"/>
          <a:ext cx="4491000" cy="361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5837400"/>
                    <a:ext cx="44910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927-7DAE-4627-807C-B593FE35FFE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526C-8582-4F11-923E-2709362C59B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760-11E3-4C88-AE4A-17CECBBC4CA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420D-9451-4283-A0B9-1E6B7A960781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8881-8A02-4EFD-A7AC-FE2AE6588CB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42B-5BAB-43DF-BA95-8E1D8F7E2C7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D26-D042-4743-AFFD-98B6B5FDA86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D77C-DED2-4FB7-8B26-45CA87CAA88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956-BE49-4ECD-B4A1-FB3844DC85F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2667-5797-4B80-B0A1-8D2DC5A9843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6335-D8B2-4F8F-94C7-D0B4F67BC90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BD9-C27D-45BA-9595-89861584D63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EDD-4105-4CAD-9D33-9619D3154A1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884A-A225-4A63-8BA4-F1AF3B2BE67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DD3E-7EDC-48CC-BAC3-C0833BFF348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7EFD-AB6A-4F66-9294-71C2CCC482B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2769-B0CD-483E-AC75-75CF6124F89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07BE-EE8C-434F-9A18-26213936E12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ttitudes/ skills/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rocess nt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3 Ts – thinking/ teamwork/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B306-FED5-4BAE-896D-979E939BBF9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6990-0A66-4981-B35E-75DD6A47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F44-6807-44C9-A6A1-2E307635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608-4F39-4BEA-9548-E7C0FFA7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2588-C2AF-41BE-B2C7-96B2851F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4D68-0733-49D7-8353-4BB53531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228-63A1-4A36-8E77-3C5428B8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3DF-9E19-44F6-8E9A-0F77258A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552E-B935-4B5B-9B94-1E0B095D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B9D-5873-4E97-8708-A471AB11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2EA5-CAAF-4D05-AE06-3B33CE7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2AF3-D1AC-45F4-97AC-95ADEB3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69BA-40EE-4278-9A73-BA73749F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3BC8-6B4C-47BE-AAC7-5C4E1CA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6894-68E5-4F38-B995-5FB5DCD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6CF4-2AF9-435B-91B3-B485DDC1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C807-56AD-400F-AD22-6AF3EE60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8CFC-70E1-48BE-AFA3-B5FDDF9A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30B-5293-40EF-BC5D-F3554EE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385-7976-4E1D-8337-7E72CC5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93D-BB6B-4708-AA65-9BCBCE4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784-7D32-41E7-A955-CABFA643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D02-862D-48BF-96F8-02A2E54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9CF-7D2B-44DA-83EB-56FF3A0C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336-1C00-43AE-84AB-FE6DD03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D928-F184-4524-AA63-E1663760A2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0897-E999-45D5-A623-7FF33F344CE5}" type="slidenum">
              <a:rPr b="0" lang="en-GB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ST.  ANNE’S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COMMUNITY COLLEGE </a:t>
            </a:r>
            <a:br>
              <a:rPr sz="4000"/>
            </a:b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TRANSITION YEAR PROGRAMM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N OVERVIEW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Information Sess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RE SUBJECT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ENGLISH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RISH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ATH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 FOREIGN LANGUAG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UBJECT SAMPLING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R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COMPUTER STUD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HOME ECONOMICS &amp; INTERNATIONAL CUISI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ATERIALS TECHNOLOG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USI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ETAL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PEECH AND DRAM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OLID WORK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WORLD OF SCIENC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RANSITION SPECIFIC LAY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MINI-COMPAN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PUBLIC ACCESS TO LAW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SCHOOL BAN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VARIETY OF SPORTING ACTIVITIE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FIRST AI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YOUNG SOCIAL INNOVATO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HEALTH AND SAFE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GREEN SCHOOL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RELIGIOUS EDUCATION AND SOCIAL OUTREACH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ALENDAR LAY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WORK EXPERIENCE PLACEMEN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VISITING SPEAK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OUTDOOR PURSUI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EXCURSION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MISSIONVALE, SOUTH AFRI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SCHOOL MUSICA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11736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45472"/>
                </a:solidFill>
                <a:latin typeface="Times New Roman"/>
              </a:rPr>
              <a:t>BALANCE IN THE T</a:t>
            </a:r>
            <a:r>
              <a:rPr b="1" lang="en-IE" sz="3600" spc="-1" strike="noStrike">
                <a:solidFill>
                  <a:srgbClr val="545472"/>
                </a:solidFill>
                <a:latin typeface="Times New Roman"/>
              </a:rPr>
              <a:t>.Y. </a:t>
            </a:r>
            <a:r>
              <a:rPr b="1" lang="en-GB" sz="3600" spc="-1" strike="noStrike">
                <a:solidFill>
                  <a:srgbClr val="545472"/>
                </a:solidFill>
                <a:latin typeface="Times New Roman"/>
              </a:rPr>
              <a:t>CURRICULU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TRADITIONAL SUBJECTS.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NEW MODULE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Didactic Teaching Methods.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         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Active Teaching Method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ACADEMIC SKILLS.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  SELF-DIRECTED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LEARNING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Class based learning.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     Out of school activitie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BASIC STUDY HABITS.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      </a:t>
            </a:r>
            <a:r>
              <a:rPr b="1" i="1" lang="en-IE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THE CAPACITY TO 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1" i="1" lang="en-GB" sz="2400" spc="-1" strike="noStrike">
                <a:solidFill>
                  <a:srgbClr val="545472"/>
                </a:solidFill>
                <a:latin typeface="Times New Roman"/>
              </a:rPr>
              <a:t>            WORK IN GROUPS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4114800" y="1628640"/>
            <a:ext cx="12952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4038480" y="2349360"/>
            <a:ext cx="13716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352680" y="2997360"/>
            <a:ext cx="20574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3200400" y="4221000"/>
            <a:ext cx="20574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>
            <a:off x="3570120" y="4941720"/>
            <a:ext cx="18288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28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METHODOLOG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Active &amp; Learner-focused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Teacher as Facilitato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Group-work / Pair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Role-play /Simulation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Project work /Field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Out-of-school Activit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Visiting Speak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Practical-Work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ASSESSMEN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STUDENTS ARE ASSESSED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ON ALL ASPECTS OF THE PROGRAMM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USING A VARIETY OF TECHNIQU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ortfolio 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Oral Presenta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ural 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roject-Wor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Self-Assess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Written and/or Practical Class Tes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isplays of Work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RTIFICA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ertificate from St. Anne’s Community Colleg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UDENTS WILL BE ASSESSED 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rticip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thusias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mitm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ess Throughout the Yea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the Students Apply Themselves to the Programm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POINTS TO CONSIDER </a:t>
            </a:r>
            <a:br>
              <a:rPr sz="4400"/>
            </a:b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ABOUT  TY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Why do I want to do TY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on’t Base Your Decision on What Your Friends Want to Do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4</a:t>
            </a:r>
            <a:r>
              <a:rPr b="0" lang="en-IE" sz="28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 year Subject Options – Tasters in 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m I Ready For Senior Cycle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m I Excited About the Opportunities TY Presents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FIN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TOTAL FEES FOR 2015-2016:   €420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€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180 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May 29</a:t>
            </a:r>
            <a:r>
              <a:rPr b="0" lang="en-IE" sz="3200" spc="-1" strike="noStrike" baseline="30000">
                <a:solidFill>
                  <a:srgbClr val="545472"/>
                </a:solidFill>
                <a:latin typeface="Tahoma"/>
              </a:rPr>
              <a:t>th.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€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180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545472"/>
                </a:solidFill>
                <a:latin typeface="Tahoma"/>
              </a:rPr>
              <a:t>September 30</a:t>
            </a:r>
            <a:r>
              <a:rPr b="0" lang="en-IE" sz="3200" spc="-1" strike="noStrike" baseline="30000">
                <a:solidFill>
                  <a:srgbClr val="545472"/>
                </a:solidFill>
                <a:latin typeface="Tahoma"/>
              </a:rPr>
              <a:t>th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 baseline="30000">
                <a:solidFill>
                  <a:srgbClr val="545472"/>
                </a:solidFill>
                <a:uFillTx/>
                <a:latin typeface="Tahoma"/>
              </a:rPr>
              <a:t>DEPOSIT OF €60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 u="sng" baseline="30000">
                <a:solidFill>
                  <a:srgbClr val="545472"/>
                </a:solidFill>
                <a:uFillTx/>
                <a:latin typeface="Tahoma"/>
              </a:rPr>
              <a:t>Return Deposit with Application For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HISTORY OF TRANSITION YEA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troduced in 1973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instreamed in 1994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ationally two thirds of Post-Primary schools have TY Programm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0,000+ students participate in the TY Programme annual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ighly regarded internationall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660066"/>
                </a:solidFill>
                <a:latin typeface="Tahoma"/>
              </a:rPr>
              <a:t>EXPECTATIONS OF STUDENTS DURING TY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Actively participate in all the opportunities offer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Develop work and study habits appropriate to senior cycl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Establish positive and respectful relationships with fellow students and teacher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45472"/>
                </a:solidFill>
                <a:latin typeface="Tahoma"/>
              </a:rPr>
              <a:t>Participate in class work and complete homework and other assignments on time and to the required standar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EY TO SUCCES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PARTICIPATION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GOOD ATTENDANCE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POSITIVE RELATIONSHIPS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FLEXIBILITY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OPENNESS TO LEARNING NEW THINGS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GIVE IT A GO.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Y IS AN OPPORTUNITY TO DEVELO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R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ading, Writing, Arithmeti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T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nking, Teamwork,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chnology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3LS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fe skills, Learning, Leisu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RESEARCH FINDINGS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ANSITION YEA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EARCH FINDING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ESRI Study “The Transition Year Programme-An Assessment” has established that students who had taken the TY programme had a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Higher Grade Poin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verag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n the Leaving Certificate as well 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creased Entry Level to Higher Educati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  Students were also found to take a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Broader Range of Cours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t third level than non TY students (ESRI 2004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EARCH FINDING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NCCA STUDY 1999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nd that Leaving Cert students who had taken TY Programme were more likely to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Be educationally adventurou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Retain subjects at higher leve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Take up subjects they had not taken befo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PECTORATE  EVAL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consensus among Principals, Teachers and Students is that the Transition Year Programme is a very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worthwhile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initiativ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………………It gives the students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time to grow in maturity and to develop self-confidenc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Inspectorate Dept. of Educat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737080" cy="295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3059280" y="746280"/>
            <a:ext cx="2952720" cy="2989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/>
          <a:stretch/>
        </p:blipFill>
        <p:spPr>
          <a:xfrm>
            <a:off x="6227640" y="774720"/>
            <a:ext cx="27003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4"/>
          <a:stretch/>
        </p:blipFill>
        <p:spPr>
          <a:xfrm>
            <a:off x="179280" y="3759120"/>
            <a:ext cx="2880000" cy="2838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5"/>
          <a:stretch/>
        </p:blipFill>
        <p:spPr>
          <a:xfrm>
            <a:off x="3132000" y="3789360"/>
            <a:ext cx="288000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6"/>
          <a:stretch/>
        </p:blipFill>
        <p:spPr>
          <a:xfrm>
            <a:off x="6012000" y="3789360"/>
            <a:ext cx="313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HAT IS TRANSITION YE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One year school based programme between Junior and Senior Cycle 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t provides a bridge to enable students make the transition from Junior to Senior cycle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It offers students a broad variety of learning experiences inside and outside the classroom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An exciting and innovative way of learning for studen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HY WAS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RANSITION YEAR INTRODUCED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ntil recently Irish students left school at a younger age than their European counterpart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need to encourage personal and social developmen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failure rates and high drop-out rates at third level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give students more educational opportunit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04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332000" y="1197000"/>
            <a:ext cx="6730920" cy="80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The Leaving Certificate &amp;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imes New Roman"/>
              </a:rPr>
              <a:t>Points Rac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s a result of doing the TY Programme the students: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ke  more informed subject choic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Have improved study skill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re more independent learner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ke better CAO choices and meet course requirement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Grow as people and participate more in the school and local communitie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916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127160" y="1523880"/>
            <a:ext cx="7394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Third Level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High drop out rat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Transition Year increases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ge Profile/Maturity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ndependence and Personal Develop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A Variety of Skills including Group, Project-work ,Research Skills, Etc.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.C.T. skill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Greater knowledge and Experience of the World of Work and Busi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Social Conscious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4480" y="691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Why opt for Transition Year?</a:t>
            </a:r>
            <a:br>
              <a:rPr sz="3200"/>
            </a:b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Challenges Facing Young People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6392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1028"/>
          <p:cNvSpPr/>
          <p:nvPr/>
        </p:nvSpPr>
        <p:spPr>
          <a:xfrm>
            <a:off x="250920" y="152388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545472"/>
                </a:solidFill>
                <a:latin typeface="Times New Roman"/>
              </a:rPr>
              <a:t>Adult and Working Life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545472"/>
                </a:solidFill>
                <a:latin typeface="Times New Roman"/>
              </a:rPr>
              <a:t>Transition Year helps students to build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Confidence and Assertivenes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Teamwork Skills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Maturity /Critical Judge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Careers / Work Experience /Community Involvement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nterviews – C.V. , Portfolios, Business Plans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Technical and Practical Skills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I.C.T. Skills /Word-Processing/Presentations and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545472"/>
                </a:solidFill>
                <a:latin typeface="Times New Roman"/>
              </a:rPr>
              <a:t>Public-Speaking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15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IM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3124080" y="1447920"/>
            <a:ext cx="243864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1600200" y="3200400"/>
            <a:ext cx="266688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267080" y="3200400"/>
            <a:ext cx="274320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5600" y="1828800"/>
            <a:ext cx="1759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ducation f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MATURIT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with emphasis on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social awarenes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&amp; increased social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competenc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905120" y="3657600"/>
            <a:ext cx="218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ducation through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xperience of </a:t>
            </a: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ADULT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&amp; WORKING LIF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as a basis for personal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development &amp; maturit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53000" y="350532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Promotion of general,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technical and academic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545472"/>
                </a:solidFill>
                <a:latin typeface="Times New Roman"/>
              </a:rPr>
              <a:t>SKILLS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with a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emphasis on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interdisciplinary and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45472"/>
                </a:solidFill>
                <a:latin typeface="Times New Roman"/>
              </a:rPr>
              <a:t>self-directed learning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THE LAYERS OF </a:t>
            </a: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UR TY PROGRAMME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1. CORE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2.SUBJECT SAMPLING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3. TRANSITION SPECIFIC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4. CALENDAR LAYE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2:36:06Z</dcterms:created>
  <dc:creator>Blackrock Education Centre</dc:creator>
  <dc:description/>
  <dc:language>en-US</dc:language>
  <cp:lastModifiedBy>fiona</cp:lastModifiedBy>
  <dcterms:modified xsi:type="dcterms:W3CDTF">2015-03-09T21:22:48Z</dcterms:modified>
  <cp:revision>45</cp:revision>
  <dc:subject/>
  <dc:title>THE TRANSITION YEAR PROGRAMME</dc:title>
</cp:coreProperties>
</file>